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C4D-F3F5-429B-8EE4-0F7B9F4E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96C-0E8C-4A8E-9348-F746094BB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6D5-E354-4FBD-A8AA-D3B6E9119C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CBBF-4F78-4E46-B4F5-B8A65C634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D2E5-F635-4645-AD73-DAB2B5B2D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3EB-4BEC-4DEF-9EDC-0ECB3C9F3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8A8-EA9F-4A95-BA09-247C18B26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813-EB31-4FCF-B109-48CD5CFAC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BF6E-590F-4785-8B9C-FF527F579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9754-4A62-48CD-8C7D-CC846B8522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D34-F256-4767-A559-0C9AF25B1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22AF-AE71-4ED2-9DC0-DE6C4B32C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14F-ADBE-44D7-8BF5-07AF834AAC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20D-EAF5-435C-9DD5-6230D9108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3CD2-0E4E-4924-B600-3699AABA9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63C-BAE3-4B96-9C7A-8E8A01943F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16F-22AB-4E26-95B2-F84FDF7FC9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6469-5727-46F7-91EA-D70398694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A9E-57C8-431A-972B-D54FD1074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F93-C336-4F13-B095-78408E94E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ED3-969E-4AF1-907A-F327C63C3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F9F7-51D6-408D-9B06-0E8936736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C071-70BB-4E82-9C0C-37E825B358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190-FE89-4C35-9B64-0BB5810A02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CA26-3ED1-44E1-AA9E-22B8F6121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9B3-D2F4-4306-91DB-CADBD01BE5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1A2-FD75-48ED-A38E-41E24FE4D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487-A3D7-46E5-B3E9-D68AACDFD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A64-427F-4DEB-ACBC-DD0B90542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9B5-B09C-4F0A-BC70-506FF2FC1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C6BA-313B-421E-A9B5-8D1694504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3A4C-D628-40AD-81D2-3793AC7DC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58F9-77BD-468D-96B2-2A6D2BE9A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BEA-F431-4382-A4F7-DC6884043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F4C-F62A-4CDC-A484-7890DFDDB9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F562-F0B2-4CD7-B998-972C527804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64B-1B09-41D6-B46D-EAE373AB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BE6-ECD2-40EA-BA43-59E82BB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108-1223-4A85-9B47-AE8AA815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311-A31C-4B1C-93CF-653A6409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155-43D4-46FB-98EB-81977FA9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96C-2456-4788-8F9C-474D7E0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3A7-2E4B-4D9D-96FD-B9E0E24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004C-8D8B-42A7-9749-521ED21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798-CB7A-4BB5-9FF3-38995099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FBCD-751C-4B84-82C5-2637A02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83D6-BC40-4638-BCFC-748DBF7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B47-56AC-4421-B0CC-1C6296F5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9F9D-0CFC-4D21-BC6A-F7E4A11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CD98-E7CF-46A7-9978-19321FC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CA9-B5C0-472D-BF32-E5102257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2FEF-A650-4B9B-B877-5AE280A1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CF43-CA9B-4850-9BD6-E98B4932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5996-B908-441D-A4B5-37329134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912D-63AB-414B-B27C-E009944E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BF2E-F1A0-4F5F-90D5-D9C11C7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687E-1BA3-449F-84E3-D1B5E79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C0B6-223A-4B1C-97EB-D471707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5B7-7504-46E1-B354-92847357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37D3-DAB1-4286-BA17-AE96BBF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3D66-C275-4ED5-923D-A55A8F3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D6BB-C727-44C9-93ED-8580C37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1137-A379-4C69-9DFD-D2B246E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BBED-C1B6-48C2-8E9B-EE62EB2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E386-DF9F-46DD-9779-51EF5E58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3F88-7A20-447F-A788-36B1D855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C988-198D-4E67-8034-84D329F9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025B-FC90-4EBA-A3FC-5B0CA659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C83F-D980-4DE2-AF27-CBA7AA0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CC3-88AF-4FE1-8E99-A47C2C60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F6B4-7794-4AE3-88F9-B16B016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5FD2-BB22-4C2A-BF99-6BFF792F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1B0A-CF4E-41BF-87CD-9F53031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6753-86E7-4109-B76B-022138E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E0391-4D50-420D-AB4B-B5B6AFD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5EE3-83E1-4FAA-BBD3-96DADB09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2383-8A12-42D7-AA33-4BC8DB8B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8BB0-D3EB-4E20-81F4-E762DD99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841D-1DCB-49FA-B088-3AF08400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73D-042E-4F41-961C-13A506BA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C57-C7BA-464B-BC51-87D77E1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480-65FE-4A50-A40A-5A200F5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9C0-E015-406E-8B86-6B56CED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9B0-31E5-4B86-BDA1-5BE1C97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F77-678C-4C63-8EEC-019D9FB2D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1C0-5C0A-4946-8191-5EA36FE4FF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8CC-8294-4CAF-AEFF-29D420A3C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EEEC-E50C-445A-AC88-61B66414A9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micalgraphics.com/paul/images/DNA/BallAndStick.jp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dative" TargetMode="External"/><Relationship Id="rId2" Type="http://schemas.openxmlformats.org/officeDocument/2006/relationships/hyperlink" Target="https://en.wikipedia.org/wiki/Hypnotic" TargetMode="External"/><Relationship Id="rId3" Type="http://schemas.openxmlformats.org/officeDocument/2006/relationships/hyperlink" Target="https://en.wikipedia.org/wiki/Anxiolytic" TargetMode="External"/><Relationship Id="rId4" Type="http://schemas.openxmlformats.org/officeDocument/2006/relationships/hyperlink" Target="https://en.wikipedia.org/wiki/Psychedelics,_dissociatives_and_deliriants" TargetMode="External"/><Relationship Id="rId5" Type="http://schemas.openxmlformats.org/officeDocument/2006/relationships/hyperlink" Target="https://en.wikipedia.org/wiki/Inhalant" TargetMode="External"/><Relationship Id="rId6" Type="http://schemas.openxmlformats.org/officeDocument/2006/relationships/hyperlink" Target="https://en.wikipedia.org/wiki/Phencyclidin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668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висност од психоактивних супстан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оф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р  Мирјана Јованов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828720" y="285840"/>
            <a:ext cx="763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380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иолошка сазн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1440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лоупотреб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виснос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од дрога и алкохола “трпе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енетске утица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ty sееking”  темпер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ед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 одгово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бо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ик од касније зави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одични фактори (наследни фактор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каснијим медицинс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следицама коришћења 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зависна психијатријск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8"/>
          <p:cNvGrpSpPr/>
          <p:nvPr/>
        </p:nvGrpSpPr>
        <p:grpSpPr>
          <a:xfrm>
            <a:off x="1295280" y="1827360"/>
            <a:ext cx="6496560" cy="4818600"/>
            <a:chOff x="1295280" y="1827360"/>
            <a:chExt cx="6496560" cy="4818600"/>
          </a:xfrm>
        </p:grpSpPr>
        <p:sp>
          <p:nvSpPr>
            <p:cNvPr id="262" name="Rectangle 9"/>
            <p:cNvSpPr/>
            <p:nvPr/>
          </p:nvSpPr>
          <p:spPr>
            <a:xfrm>
              <a:off x="3337200" y="4595400"/>
              <a:ext cx="2535480" cy="7009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33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889800" y="2005200"/>
              <a:ext cx="139824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ahoma"/>
                </a:rPr>
                <a:t>DRUG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285360" y="3399120"/>
              <a:ext cx="2608560" cy="71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3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BRAIN 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MECHANISM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473640" y="4708080"/>
              <a:ext cx="222912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Tahoma"/>
                </a:rPr>
                <a:t>ADDI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185640" y="5690880"/>
              <a:ext cx="286740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ahoma"/>
                </a:rPr>
                <a:t>ENVIRON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926720" y="1827360"/>
              <a:ext cx="1398240" cy="37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Tahoma"/>
                </a:rPr>
                <a:t>HISTOR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1829160" y="2064600"/>
              <a:ext cx="176292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previous history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expect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lear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627360" y="5956920"/>
              <a:ext cx="201708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social interaction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stres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conditioned stimu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5882760" y="2022840"/>
              <a:ext cx="1909080" cy="87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genetic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circadian rhythm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disease st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gen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Group 18"/>
            <p:cNvGrpSpPr/>
            <p:nvPr/>
          </p:nvGrpSpPr>
          <p:grpSpPr>
            <a:xfrm>
              <a:off x="4409640" y="2466000"/>
              <a:ext cx="343800" cy="786960"/>
              <a:chOff x="4409640" y="2466000"/>
              <a:chExt cx="343800" cy="786960"/>
            </a:xfrm>
          </p:grpSpPr>
          <p:sp>
            <p:nvSpPr>
              <p:cNvPr id="272" name="Rectangle 19"/>
              <p:cNvSpPr/>
              <p:nvPr/>
            </p:nvSpPr>
            <p:spPr>
              <a:xfrm flipV="1">
                <a:off x="4535280" y="2465640"/>
                <a:ext cx="102240" cy="58716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0"/>
              <p:cNvSpPr/>
              <p:nvPr/>
            </p:nvSpPr>
            <p:spPr>
              <a:xfrm>
                <a:off x="4409640" y="3018240"/>
                <a:ext cx="343800" cy="2347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Rectangle 21"/>
            <p:cNvSpPr/>
            <p:nvPr/>
          </p:nvSpPr>
          <p:spPr>
            <a:xfrm flipV="1">
              <a:off x="5880240" y="4917240"/>
              <a:ext cx="1229040" cy="8460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2"/>
            <p:cNvSpPr/>
            <p:nvPr/>
          </p:nvSpPr>
          <p:spPr>
            <a:xfrm flipV="1">
              <a:off x="7013520" y="3862440"/>
              <a:ext cx="95760" cy="1091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3"/>
            <p:cNvSpPr/>
            <p:nvPr/>
          </p:nvSpPr>
          <p:spPr>
            <a:xfrm flipV="1">
              <a:off x="6469920" y="3813840"/>
              <a:ext cx="6364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4"/>
            <p:cNvSpPr/>
            <p:nvPr/>
          </p:nvSpPr>
          <p:spPr>
            <a:xfrm>
              <a:off x="6288480" y="3746160"/>
              <a:ext cx="307440" cy="23652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8" y="0"/>
                  </a:moveTo>
                  <a:lnTo>
                    <a:pt x="0" y="109"/>
                  </a:lnTo>
                  <a:lnTo>
                    <a:pt x="214" y="209"/>
                  </a:lnTo>
                  <a:lnTo>
                    <a:pt x="208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4439880" y="4088520"/>
              <a:ext cx="342360" cy="657360"/>
              <a:chOff x="4439880" y="4088520"/>
              <a:chExt cx="342360" cy="657360"/>
            </a:xfrm>
          </p:grpSpPr>
          <p:sp>
            <p:nvSpPr>
              <p:cNvPr id="279" name="Rectangle 26"/>
              <p:cNvSpPr/>
              <p:nvPr/>
            </p:nvSpPr>
            <p:spPr>
              <a:xfrm flipV="1">
                <a:off x="4552560" y="4088520"/>
                <a:ext cx="113760" cy="4838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7"/>
              <p:cNvSpPr/>
              <p:nvPr/>
            </p:nvSpPr>
            <p:spPr>
              <a:xfrm>
                <a:off x="4439880" y="4512960"/>
                <a:ext cx="342360" cy="2329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3861000" y="5150880"/>
              <a:ext cx="342360" cy="569880"/>
              <a:chOff x="3861000" y="5150880"/>
              <a:chExt cx="342360" cy="569880"/>
            </a:xfrm>
          </p:grpSpPr>
          <p:sp>
            <p:nvSpPr>
              <p:cNvPr id="282" name="Rectangle 29"/>
              <p:cNvSpPr/>
              <p:nvPr/>
            </p:nvSpPr>
            <p:spPr>
              <a:xfrm flipV="1">
                <a:off x="3982320" y="5150880"/>
                <a:ext cx="95400" cy="33192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0"/>
              <p:cNvSpPr/>
              <p:nvPr/>
            </p:nvSpPr>
            <p:spPr>
              <a:xfrm>
                <a:off x="3861000" y="5487120"/>
                <a:ext cx="342360" cy="23364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0"/>
                    </a:moveTo>
                    <a:lnTo>
                      <a:pt x="119" y="206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1"/>
            <p:cNvGrpSpPr/>
            <p:nvPr/>
          </p:nvGrpSpPr>
          <p:grpSpPr>
            <a:xfrm>
              <a:off x="4825080" y="5150880"/>
              <a:ext cx="340920" cy="564840"/>
              <a:chOff x="4825080" y="5150880"/>
              <a:chExt cx="340920" cy="564840"/>
            </a:xfrm>
          </p:grpSpPr>
          <p:sp>
            <p:nvSpPr>
              <p:cNvPr id="285" name="Rectangle 32"/>
              <p:cNvSpPr/>
              <p:nvPr/>
            </p:nvSpPr>
            <p:spPr>
              <a:xfrm flipV="1">
                <a:off x="4945320" y="5385960"/>
                <a:ext cx="93960" cy="32976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3"/>
              <p:cNvSpPr/>
              <p:nvPr/>
            </p:nvSpPr>
            <p:spPr>
              <a:xfrm>
                <a:off x="4825080" y="5150880"/>
                <a:ext cx="340920" cy="235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239" y="207"/>
                    </a:moveTo>
                    <a:lnTo>
                      <a:pt x="120" y="0"/>
                    </a:lnTo>
                    <a:lnTo>
                      <a:pt x="0" y="207"/>
                    </a:lnTo>
                    <a:lnTo>
                      <a:pt x="239" y="207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34"/>
            <p:cNvSpPr/>
            <p:nvPr/>
          </p:nvSpPr>
          <p:spPr>
            <a:xfrm flipV="1">
              <a:off x="6166800" y="5900760"/>
              <a:ext cx="156852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 flipV="1">
              <a:off x="7633440" y="3491280"/>
              <a:ext cx="109440" cy="2425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 flipV="1">
              <a:off x="6553440" y="3463920"/>
              <a:ext cx="11890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 flipV="1">
              <a:off x="2422080" y="3893760"/>
              <a:ext cx="455040" cy="103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 flipV="1">
              <a:off x="1858320" y="3894480"/>
              <a:ext cx="455400" cy="109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9"/>
            <p:cNvSpPr/>
            <p:nvPr/>
          </p:nvSpPr>
          <p:spPr>
            <a:xfrm flipV="1">
              <a:off x="1295280" y="3898080"/>
              <a:ext cx="455040" cy="10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0"/>
            <p:cNvSpPr/>
            <p:nvPr/>
          </p:nvSpPr>
          <p:spPr>
            <a:xfrm flipV="1" rot="16200000">
              <a:off x="1184040" y="40204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 flipV="1" rot="16200000">
              <a:off x="1182960" y="44560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 flipV="1" rot="16200000">
              <a:off x="1180440" y="4892040"/>
              <a:ext cx="363600" cy="13392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3"/>
            <p:cNvSpPr/>
            <p:nvPr/>
          </p:nvSpPr>
          <p:spPr>
            <a:xfrm flipV="1" rot="16200000">
              <a:off x="1183320" y="5326200"/>
              <a:ext cx="357480" cy="133920"/>
            </a:xfrm>
            <a:prstGeom prst="rect">
              <a:avLst/>
            </a:prstGeom>
            <a:gradFill rotWithShape="0">
              <a:gsLst>
                <a:gs pos="0">
                  <a:srgbClr val="ff008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4"/>
            <p:cNvSpPr/>
            <p:nvPr/>
          </p:nvSpPr>
          <p:spPr>
            <a:xfrm flipV="1" rot="16200000">
              <a:off x="1182240" y="5758200"/>
              <a:ext cx="359640" cy="133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 flipV="1">
              <a:off x="129528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 flipV="1">
              <a:off x="185256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 flipV="1">
              <a:off x="2408040" y="5901480"/>
              <a:ext cx="45360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8"/>
            <p:cNvSpPr/>
            <p:nvPr/>
          </p:nvSpPr>
          <p:spPr>
            <a:xfrm>
              <a:off x="6285600" y="3375360"/>
              <a:ext cx="298440" cy="255240"/>
            </a:xfrm>
            <a:custGeom>
              <a:avLst/>
              <a:gdLst/>
              <a:ahLst/>
              <a:rect l="l" t="t" r="r" b="b"/>
              <a:pathLst>
                <a:path w="207" h="227">
                  <a:moveTo>
                    <a:pt x="201" y="0"/>
                  </a:moveTo>
                  <a:lnTo>
                    <a:pt x="0" y="118"/>
                  </a:lnTo>
                  <a:lnTo>
                    <a:pt x="206" y="226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9"/>
            <p:cNvGrpSpPr/>
            <p:nvPr/>
          </p:nvGrpSpPr>
          <p:grpSpPr>
            <a:xfrm>
              <a:off x="5036760" y="2408400"/>
              <a:ext cx="922680" cy="948960"/>
              <a:chOff x="5036760" y="2408400"/>
              <a:chExt cx="922680" cy="948960"/>
            </a:xfrm>
          </p:grpSpPr>
          <p:sp>
            <p:nvSpPr>
              <p:cNvPr id="303" name="Freeform 50"/>
              <p:cNvSpPr/>
              <p:nvPr/>
            </p:nvSpPr>
            <p:spPr>
              <a:xfrm rot="20733000">
                <a:off x="5110920" y="2493720"/>
                <a:ext cx="773640" cy="69480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51"/>
              <p:cNvSpPr/>
              <p:nvPr/>
            </p:nvSpPr>
            <p:spPr>
              <a:xfrm rot="20733000">
                <a:off x="5121000" y="3056040"/>
                <a:ext cx="324000" cy="2649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Freeform 52"/>
            <p:cNvSpPr/>
            <p:nvPr/>
          </p:nvSpPr>
          <p:spPr>
            <a:xfrm>
              <a:off x="2743200" y="5818320"/>
              <a:ext cx="297000" cy="2710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0" y="239"/>
                  </a:moveTo>
                  <a:lnTo>
                    <a:pt x="207" y="119"/>
                  </a:ln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5877720" y="1837800"/>
              <a:ext cx="1342080" cy="35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ahoma"/>
                </a:rPr>
                <a:t>BIOLO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Group 54"/>
            <p:cNvGrpSpPr/>
            <p:nvPr/>
          </p:nvGrpSpPr>
          <p:grpSpPr>
            <a:xfrm>
              <a:off x="3204720" y="2386800"/>
              <a:ext cx="922320" cy="949320"/>
              <a:chOff x="3204720" y="2386800"/>
              <a:chExt cx="922320" cy="949320"/>
            </a:xfrm>
          </p:grpSpPr>
          <p:sp>
            <p:nvSpPr>
              <p:cNvPr id="308" name="Freeform 55"/>
              <p:cNvSpPr/>
              <p:nvPr/>
            </p:nvSpPr>
            <p:spPr>
              <a:xfrm flipH="1" rot="867000">
                <a:off x="3278880" y="2472120"/>
                <a:ext cx="773640" cy="69408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6"/>
              <p:cNvSpPr/>
              <p:nvPr/>
            </p:nvSpPr>
            <p:spPr>
              <a:xfrm flipH="1" rot="867000">
                <a:off x="3717720" y="3032640"/>
                <a:ext cx="324360" cy="2667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57"/>
          <p:cNvSpPr/>
          <p:nvPr/>
        </p:nvSpPr>
        <p:spPr>
          <a:xfrm>
            <a:off x="0" y="1522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Зависност од дрог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комплексан бихејвиорални и н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уробиоло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шки поремећа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907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1"/>
          <a:stretch/>
        </p:blipFill>
        <p:spPr>
          <a:xfrm>
            <a:off x="182520" y="1390680"/>
            <a:ext cx="8839080" cy="5391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5627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opa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066680" y="42670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endritic Sp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0" y="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новље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р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не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к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н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рипцију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шт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л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уготрајним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р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у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ним проме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67480" y="2057400"/>
            <a:ext cx="38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apted from Nestler E.J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ience &amp; Practice Perspectiv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(1) 200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2"/>
          <p:cNvGrpSpPr/>
          <p:nvPr/>
        </p:nvGrpSpPr>
        <p:grpSpPr>
          <a:xfrm>
            <a:off x="152280" y="1905120"/>
            <a:ext cx="8991360" cy="4456080"/>
            <a:chOff x="152280" y="1905120"/>
            <a:chExt cx="8991360" cy="4456080"/>
          </a:xfrm>
        </p:grpSpPr>
        <p:sp>
          <p:nvSpPr>
            <p:cNvPr id="322" name="Text Box 5"/>
            <p:cNvSpPr/>
            <p:nvPr/>
          </p:nvSpPr>
          <p:spPr>
            <a:xfrm rot="10800000">
              <a:off x="5208120" y="3296160"/>
              <a:ext cx="50040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0066"/>
                  </a:solidFill>
                  <a:latin typeface="Osaka"/>
                </a:rPr>
                <a:t>Branch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43676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1517040" y="4374720"/>
              <a:ext cx="561600" cy="143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079000" y="2477160"/>
              <a:ext cx="642240" cy="33249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 flipH="1">
              <a:off x="1139040" y="5844600"/>
              <a:ext cx="322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735240" y="3621960"/>
              <a:ext cx="481680" cy="220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216920" y="2313720"/>
              <a:ext cx="641880" cy="348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5686560" y="19864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5762160" y="3114360"/>
              <a:ext cx="8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5767200" y="44564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767200" y="55843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48280" y="19051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548280" y="31312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33960" y="4439520"/>
              <a:ext cx="8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9"/>
            <p:cNvSpPr/>
            <p:nvPr/>
          </p:nvSpPr>
          <p:spPr>
            <a:xfrm>
              <a:off x="628920" y="56012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6495840" y="2085480"/>
              <a:ext cx="2520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 flipH="1">
              <a:off x="6173280" y="3311640"/>
              <a:ext cx="322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 flipH="1">
              <a:off x="6173280" y="462024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 flipH="1">
              <a:off x="6333840" y="2737800"/>
              <a:ext cx="16164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H="1">
              <a:off x="6333840" y="396576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 flipH="1">
              <a:off x="6093360" y="2167200"/>
              <a:ext cx="401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H="1">
              <a:off x="6333840" y="527400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H="1">
              <a:off x="953280" y="5829480"/>
              <a:ext cx="5634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5" name="Picture 28" descr=""/>
            <p:cNvPicPr/>
            <p:nvPr/>
          </p:nvPicPr>
          <p:blipFill>
            <a:blip r:embed="rId1"/>
            <a:stretch/>
          </p:blipFill>
          <p:spPr>
            <a:xfrm>
              <a:off x="152280" y="3148560"/>
              <a:ext cx="4482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Line 29"/>
            <p:cNvSpPr/>
            <p:nvPr/>
          </p:nvSpPr>
          <p:spPr>
            <a:xfrm>
              <a:off x="1276200" y="2068200"/>
              <a:ext cx="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 flipH="1">
              <a:off x="929880" y="32947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31"/>
            <p:cNvSpPr/>
            <p:nvPr/>
          </p:nvSpPr>
          <p:spPr>
            <a:xfrm flipH="1">
              <a:off x="929880" y="46033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32"/>
            <p:cNvSpPr/>
            <p:nvPr/>
          </p:nvSpPr>
          <p:spPr>
            <a:xfrm flipH="1">
              <a:off x="1089000" y="27208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 flipH="1">
              <a:off x="1090440" y="3948840"/>
              <a:ext cx="16200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34"/>
            <p:cNvSpPr/>
            <p:nvPr/>
          </p:nvSpPr>
          <p:spPr>
            <a:xfrm flipH="1">
              <a:off x="953640" y="216720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H="1">
              <a:off x="1090440" y="52570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3" name="Picture 36" descr=""/>
            <p:cNvPicPr/>
            <p:nvPr/>
          </p:nvPicPr>
          <p:blipFill>
            <a:blip r:embed="rId2"/>
            <a:stretch/>
          </p:blipFill>
          <p:spPr>
            <a:xfrm>
              <a:off x="8020080" y="4357800"/>
              <a:ext cx="104508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7" descr=""/>
            <p:cNvPicPr/>
            <p:nvPr/>
          </p:nvPicPr>
          <p:blipFill>
            <a:blip r:embed="rId3"/>
            <a:stretch/>
          </p:blipFill>
          <p:spPr>
            <a:xfrm>
              <a:off x="8020080" y="2558880"/>
              <a:ext cx="106668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8"/>
            <p:cNvSpPr/>
            <p:nvPr/>
          </p:nvSpPr>
          <p:spPr>
            <a:xfrm>
              <a:off x="8020080" y="5420520"/>
              <a:ext cx="112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8201160" y="3703320"/>
              <a:ext cx="66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40"/>
            <p:cNvGrpSpPr/>
            <p:nvPr/>
          </p:nvGrpSpPr>
          <p:grpSpPr>
            <a:xfrm>
              <a:off x="3283200" y="2231640"/>
              <a:ext cx="1524960" cy="3679200"/>
              <a:chOff x="3283200" y="2231640"/>
              <a:chExt cx="1524960" cy="3679200"/>
            </a:xfrm>
          </p:grpSpPr>
          <p:pic>
            <p:nvPicPr>
              <p:cNvPr id="358" name="Picture 41" descr=""/>
              <p:cNvPicPr/>
              <p:nvPr/>
            </p:nvPicPr>
            <p:blipFill>
              <a:blip r:embed="rId4"/>
              <a:srcRect l="11339" t="10247" r="62828" b="7988"/>
              <a:stretch/>
            </p:blipFill>
            <p:spPr>
              <a:xfrm>
                <a:off x="328320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59" name="Picture 42" descr=""/>
              <p:cNvPicPr/>
              <p:nvPr/>
            </p:nvPicPr>
            <p:blipFill>
              <a:blip r:embed="rId5"/>
              <a:srcRect l="63017" t="10247" r="11144" b="7988"/>
              <a:stretch/>
            </p:blipFill>
            <p:spPr>
              <a:xfrm>
                <a:off x="404568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</p:grpSp>
        <p:sp>
          <p:nvSpPr>
            <p:cNvPr id="360" name="Line 43"/>
            <p:cNvSpPr/>
            <p:nvPr/>
          </p:nvSpPr>
          <p:spPr>
            <a:xfrm flipH="1">
              <a:off x="6173280" y="5829480"/>
              <a:ext cx="32256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>
              <a:off x="649440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5"/>
            <p:cNvSpPr/>
            <p:nvPr/>
          </p:nvSpPr>
          <p:spPr>
            <a:xfrm>
              <a:off x="5932440" y="591120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46"/>
            <p:cNvSpPr/>
            <p:nvPr/>
          </p:nvSpPr>
          <p:spPr>
            <a:xfrm flipV="1">
              <a:off x="1517040" y="3621960"/>
              <a:ext cx="2086920" cy="81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47"/>
            <p:cNvSpPr/>
            <p:nvPr/>
          </p:nvSpPr>
          <p:spPr>
            <a:xfrm>
              <a:off x="2721240" y="2558880"/>
              <a:ext cx="152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8"/>
            <p:cNvSpPr/>
            <p:nvPr/>
          </p:nvSpPr>
          <p:spPr>
            <a:xfrm>
              <a:off x="7216920" y="2313720"/>
              <a:ext cx="88272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49"/>
            <p:cNvSpPr/>
            <p:nvPr/>
          </p:nvSpPr>
          <p:spPr>
            <a:xfrm>
              <a:off x="6735240" y="3621960"/>
              <a:ext cx="1284480" cy="106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50"/>
            <p:cNvSpPr/>
            <p:nvPr/>
          </p:nvSpPr>
          <p:spPr>
            <a:xfrm>
              <a:off x="2962080" y="5992920"/>
              <a:ext cx="23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1"/>
            <p:cNvSpPr/>
            <p:nvPr/>
          </p:nvSpPr>
          <p:spPr>
            <a:xfrm>
              <a:off x="473400" y="5992920"/>
              <a:ext cx="280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Text Box 53"/>
          <p:cNvSpPr/>
          <p:nvPr/>
        </p:nvSpPr>
        <p:spPr>
          <a:xfrm>
            <a:off x="0" y="4572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ч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 густину дендитрит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поје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ранање неурона 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cl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 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c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ben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3701880" y="6384960"/>
            <a:ext cx="82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Tahoma"/>
                <a:ea typeface="Osaka"/>
              </a:rPr>
              <a:t>узра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1639800" y="1400040"/>
            <a:ext cx="1800" cy="465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98760" y="596736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598760" y="56516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1598760" y="52340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98760" y="48308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598760" y="44244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598760" y="4008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598760" y="3603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598760" y="31989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598760" y="278280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598760" y="23781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1682640" y="6056280"/>
            <a:ext cx="700416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19"/>
          <p:cNvSpPr/>
          <p:nvPr/>
        </p:nvSpPr>
        <p:spPr>
          <a:xfrm>
            <a:off x="1724040" y="1746360"/>
            <a:ext cx="6900840" cy="4309920"/>
          </a:xfrm>
          <a:custGeom>
            <a:avLst/>
            <a:gdLst>
              <a:gd name="textAreaLeft" fmla="*/ 0 w 6900840"/>
              <a:gd name="textAreaRight" fmla="*/ 6901200 w 6900840"/>
              <a:gd name="textAreaTop" fmla="*/ 0 h 4309920"/>
              <a:gd name="textAreaBottom" fmla="*/ 4310280 h 4309920"/>
            </a:gdLst>
            <a:ahLst/>
            <a:rect l="textAreaLeft" t="textAreaTop" r="textAreaRight" b="textAreaBottom"/>
            <a:pathLst>
              <a:path w="4561" h="2525">
                <a:moveTo>
                  <a:pt x="0" y="2525"/>
                </a:moveTo>
                <a:lnTo>
                  <a:pt x="62" y="2525"/>
                </a:lnTo>
                <a:lnTo>
                  <a:pt x="124" y="2525"/>
                </a:lnTo>
                <a:lnTo>
                  <a:pt x="195" y="2516"/>
                </a:lnTo>
                <a:lnTo>
                  <a:pt x="257" y="2525"/>
                </a:lnTo>
                <a:lnTo>
                  <a:pt x="327" y="2525"/>
                </a:lnTo>
                <a:lnTo>
                  <a:pt x="389" y="2516"/>
                </a:lnTo>
                <a:lnTo>
                  <a:pt x="451" y="2454"/>
                </a:lnTo>
                <a:lnTo>
                  <a:pt x="522" y="2445"/>
                </a:lnTo>
                <a:lnTo>
                  <a:pt x="584" y="2295"/>
                </a:lnTo>
                <a:lnTo>
                  <a:pt x="646" y="2119"/>
                </a:lnTo>
                <a:lnTo>
                  <a:pt x="716" y="1704"/>
                </a:lnTo>
                <a:lnTo>
                  <a:pt x="778" y="1404"/>
                </a:lnTo>
                <a:lnTo>
                  <a:pt x="849" y="0"/>
                </a:lnTo>
                <a:lnTo>
                  <a:pt x="911" y="468"/>
                </a:lnTo>
                <a:lnTo>
                  <a:pt x="973" y="795"/>
                </a:lnTo>
                <a:lnTo>
                  <a:pt x="1043" y="548"/>
                </a:lnTo>
                <a:lnTo>
                  <a:pt x="1105" y="1271"/>
                </a:lnTo>
                <a:lnTo>
                  <a:pt x="1176" y="1730"/>
                </a:lnTo>
                <a:lnTo>
                  <a:pt x="1238" y="1827"/>
                </a:lnTo>
                <a:lnTo>
                  <a:pt x="1300" y="1421"/>
                </a:lnTo>
                <a:lnTo>
                  <a:pt x="1370" y="2154"/>
                </a:lnTo>
                <a:lnTo>
                  <a:pt x="1432" y="2119"/>
                </a:lnTo>
                <a:lnTo>
                  <a:pt x="1494" y="1995"/>
                </a:lnTo>
                <a:lnTo>
                  <a:pt x="1565" y="2163"/>
                </a:lnTo>
                <a:lnTo>
                  <a:pt x="1627" y="1668"/>
                </a:lnTo>
                <a:lnTo>
                  <a:pt x="1697" y="2295"/>
                </a:lnTo>
                <a:lnTo>
                  <a:pt x="1759" y="2198"/>
                </a:lnTo>
                <a:lnTo>
                  <a:pt x="1821" y="2313"/>
                </a:lnTo>
                <a:lnTo>
                  <a:pt x="1892" y="2207"/>
                </a:lnTo>
                <a:lnTo>
                  <a:pt x="1954" y="1907"/>
                </a:lnTo>
                <a:lnTo>
                  <a:pt x="2015" y="2295"/>
                </a:lnTo>
                <a:lnTo>
                  <a:pt x="2086" y="2251"/>
                </a:lnTo>
                <a:lnTo>
                  <a:pt x="2148" y="2145"/>
                </a:lnTo>
                <a:lnTo>
                  <a:pt x="2219" y="2233"/>
                </a:lnTo>
                <a:lnTo>
                  <a:pt x="2281" y="1951"/>
                </a:lnTo>
                <a:lnTo>
                  <a:pt x="2343" y="2322"/>
                </a:lnTo>
                <a:lnTo>
                  <a:pt x="2413" y="2313"/>
                </a:lnTo>
                <a:lnTo>
                  <a:pt x="2475" y="2383"/>
                </a:lnTo>
                <a:lnTo>
                  <a:pt x="2546" y="2304"/>
                </a:lnTo>
                <a:lnTo>
                  <a:pt x="2608" y="2083"/>
                </a:lnTo>
                <a:lnTo>
                  <a:pt x="2670" y="2322"/>
                </a:lnTo>
                <a:lnTo>
                  <a:pt x="2740" y="2383"/>
                </a:lnTo>
                <a:lnTo>
                  <a:pt x="2802" y="2375"/>
                </a:lnTo>
                <a:lnTo>
                  <a:pt x="2864" y="2383"/>
                </a:lnTo>
                <a:lnTo>
                  <a:pt x="2935" y="2357"/>
                </a:lnTo>
                <a:lnTo>
                  <a:pt x="2997" y="2472"/>
                </a:lnTo>
                <a:lnTo>
                  <a:pt x="3067" y="2392"/>
                </a:lnTo>
                <a:lnTo>
                  <a:pt x="3129" y="2410"/>
                </a:lnTo>
                <a:lnTo>
                  <a:pt x="3191" y="2480"/>
                </a:lnTo>
                <a:lnTo>
                  <a:pt x="3262" y="2419"/>
                </a:lnTo>
                <a:lnTo>
                  <a:pt x="3324" y="2436"/>
                </a:lnTo>
                <a:lnTo>
                  <a:pt x="3385" y="2463"/>
                </a:lnTo>
                <a:lnTo>
                  <a:pt x="3456" y="2480"/>
                </a:lnTo>
                <a:lnTo>
                  <a:pt x="3518" y="2419"/>
                </a:lnTo>
                <a:lnTo>
                  <a:pt x="3589" y="2436"/>
                </a:lnTo>
                <a:lnTo>
                  <a:pt x="3651" y="2498"/>
                </a:lnTo>
                <a:lnTo>
                  <a:pt x="3712" y="2410"/>
                </a:lnTo>
                <a:lnTo>
                  <a:pt x="3783" y="2498"/>
                </a:lnTo>
                <a:lnTo>
                  <a:pt x="3845" y="2480"/>
                </a:lnTo>
                <a:lnTo>
                  <a:pt x="3916" y="2445"/>
                </a:lnTo>
                <a:lnTo>
                  <a:pt x="3978" y="2472"/>
                </a:lnTo>
                <a:lnTo>
                  <a:pt x="4040" y="2507"/>
                </a:lnTo>
                <a:lnTo>
                  <a:pt x="4110" y="2525"/>
                </a:lnTo>
                <a:lnTo>
                  <a:pt x="4172" y="2489"/>
                </a:lnTo>
                <a:lnTo>
                  <a:pt x="4234" y="2480"/>
                </a:lnTo>
                <a:lnTo>
                  <a:pt x="4305" y="2525"/>
                </a:lnTo>
                <a:lnTo>
                  <a:pt x="4367" y="2445"/>
                </a:lnTo>
                <a:lnTo>
                  <a:pt x="4437" y="2525"/>
                </a:lnTo>
                <a:lnTo>
                  <a:pt x="4499" y="2525"/>
                </a:lnTo>
                <a:lnTo>
                  <a:pt x="4561" y="2525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>
            <a:off x="1143720" y="5899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1143720" y="5494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1143720" y="507996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143720" y="4673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1143720" y="4270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1143720" y="38527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1114920" y="3449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1143720" y="304020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1143720" y="26240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1219680" y="22208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1719720" y="608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2009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2390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27716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3152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3533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6"/>
          <p:cNvSpPr/>
          <p:nvPr/>
        </p:nvSpPr>
        <p:spPr>
          <a:xfrm>
            <a:off x="3958920" y="610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7"/>
          <p:cNvSpPr/>
          <p:nvPr/>
        </p:nvSpPr>
        <p:spPr>
          <a:xfrm>
            <a:off x="4371840" y="6084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4752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33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55148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895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6276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3"/>
          <p:cNvSpPr/>
          <p:nvPr/>
        </p:nvSpPr>
        <p:spPr>
          <a:xfrm rot="16200000">
            <a:off x="560880" y="572292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r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 rot="16200000">
            <a:off x="903960" y="55159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5"/>
          <p:cNvSpPr/>
          <p:nvPr/>
        </p:nvSpPr>
        <p:spPr>
          <a:xfrm rot="16200000">
            <a:off x="-132120" y="4579200"/>
            <a:ext cx="175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ime 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6"/>
          <p:cNvSpPr/>
          <p:nvPr/>
        </p:nvSpPr>
        <p:spPr>
          <a:xfrm>
            <a:off x="1671480" y="6040440"/>
            <a:ext cx="6551640" cy="1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206676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 flipV="1">
            <a:off x="2463840" y="6029280"/>
            <a:ext cx="648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28494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50"/>
          <p:cNvSpPr/>
          <p:nvPr/>
        </p:nvSpPr>
        <p:spPr>
          <a:xfrm flipV="1">
            <a:off x="32464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51"/>
          <p:cNvSpPr/>
          <p:nvPr/>
        </p:nvSpPr>
        <p:spPr>
          <a:xfrm flipV="1">
            <a:off x="364176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52"/>
          <p:cNvSpPr/>
          <p:nvPr/>
        </p:nvSpPr>
        <p:spPr>
          <a:xfrm flipV="1">
            <a:off x="40402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53"/>
          <p:cNvSpPr/>
          <p:nvPr/>
        </p:nvSpPr>
        <p:spPr>
          <a:xfrm flipV="1">
            <a:off x="44370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54"/>
          <p:cNvSpPr/>
          <p:nvPr/>
        </p:nvSpPr>
        <p:spPr>
          <a:xfrm flipV="1">
            <a:off x="48211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55"/>
          <p:cNvSpPr/>
          <p:nvPr/>
        </p:nvSpPr>
        <p:spPr>
          <a:xfrm flipV="1">
            <a:off x="521820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56"/>
          <p:cNvSpPr/>
          <p:nvPr/>
        </p:nvSpPr>
        <p:spPr>
          <a:xfrm flipV="1">
            <a:off x="561672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57"/>
          <p:cNvSpPr/>
          <p:nvPr/>
        </p:nvSpPr>
        <p:spPr>
          <a:xfrm flipV="1">
            <a:off x="60102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58"/>
          <p:cNvSpPr/>
          <p:nvPr/>
        </p:nvSpPr>
        <p:spPr>
          <a:xfrm flipV="1">
            <a:off x="63943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59"/>
          <p:cNvSpPr/>
          <p:nvPr/>
        </p:nvSpPr>
        <p:spPr>
          <a:xfrm>
            <a:off x="1698480" y="2316240"/>
            <a:ext cx="6443640" cy="371160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3711600"/>
              <a:gd name="textAreaBottom" fmla="*/ 3711960 h 3711600"/>
            </a:gdLst>
            <a:ahLst/>
            <a:rect l="textAreaLeft" t="textAreaTop" r="textAreaRight" b="textAreaBottom"/>
            <a:pathLst>
              <a:path w="4164" h="2166">
                <a:moveTo>
                  <a:pt x="0" y="2103"/>
                </a:moveTo>
                <a:lnTo>
                  <a:pt x="67" y="2155"/>
                </a:lnTo>
                <a:lnTo>
                  <a:pt x="122" y="2155"/>
                </a:lnTo>
                <a:lnTo>
                  <a:pt x="189" y="2166"/>
                </a:lnTo>
                <a:lnTo>
                  <a:pt x="256" y="2134"/>
                </a:lnTo>
                <a:lnTo>
                  <a:pt x="323" y="2134"/>
                </a:lnTo>
                <a:lnTo>
                  <a:pt x="378" y="2134"/>
                </a:lnTo>
                <a:lnTo>
                  <a:pt x="445" y="2062"/>
                </a:lnTo>
                <a:lnTo>
                  <a:pt x="512" y="1886"/>
                </a:lnTo>
                <a:lnTo>
                  <a:pt x="579" y="1616"/>
                </a:lnTo>
                <a:lnTo>
                  <a:pt x="634" y="1368"/>
                </a:lnTo>
                <a:lnTo>
                  <a:pt x="701" y="332"/>
                </a:lnTo>
                <a:lnTo>
                  <a:pt x="768" y="269"/>
                </a:lnTo>
                <a:lnTo>
                  <a:pt x="835" y="0"/>
                </a:lnTo>
                <a:lnTo>
                  <a:pt x="891" y="1015"/>
                </a:lnTo>
                <a:lnTo>
                  <a:pt x="957" y="1295"/>
                </a:lnTo>
                <a:lnTo>
                  <a:pt x="1024" y="1482"/>
                </a:lnTo>
                <a:lnTo>
                  <a:pt x="1091" y="1689"/>
                </a:lnTo>
                <a:lnTo>
                  <a:pt x="1158" y="1824"/>
                </a:lnTo>
                <a:lnTo>
                  <a:pt x="1214" y="1855"/>
                </a:lnTo>
                <a:lnTo>
                  <a:pt x="1280" y="1668"/>
                </a:lnTo>
                <a:lnTo>
                  <a:pt x="1347" y="1958"/>
                </a:lnTo>
                <a:lnTo>
                  <a:pt x="1414" y="2041"/>
                </a:lnTo>
                <a:lnTo>
                  <a:pt x="1470" y="1958"/>
                </a:lnTo>
                <a:lnTo>
                  <a:pt x="1536" y="2124"/>
                </a:lnTo>
                <a:lnTo>
                  <a:pt x="1603" y="1958"/>
                </a:lnTo>
                <a:lnTo>
                  <a:pt x="1670" y="2103"/>
                </a:lnTo>
                <a:lnTo>
                  <a:pt x="1726" y="2083"/>
                </a:lnTo>
                <a:lnTo>
                  <a:pt x="1793" y="2114"/>
                </a:lnTo>
                <a:lnTo>
                  <a:pt x="1859" y="2103"/>
                </a:lnTo>
                <a:lnTo>
                  <a:pt x="1926" y="2062"/>
                </a:lnTo>
                <a:lnTo>
                  <a:pt x="1982" y="2134"/>
                </a:lnTo>
                <a:lnTo>
                  <a:pt x="2049" y="2114"/>
                </a:lnTo>
                <a:lnTo>
                  <a:pt x="2116" y="2124"/>
                </a:lnTo>
                <a:lnTo>
                  <a:pt x="2182" y="2134"/>
                </a:lnTo>
                <a:lnTo>
                  <a:pt x="2238" y="2103"/>
                </a:lnTo>
                <a:lnTo>
                  <a:pt x="2305" y="2145"/>
                </a:lnTo>
                <a:lnTo>
                  <a:pt x="2372" y="2145"/>
                </a:lnTo>
                <a:lnTo>
                  <a:pt x="2438" y="2166"/>
                </a:lnTo>
                <a:lnTo>
                  <a:pt x="2494" y="2134"/>
                </a:lnTo>
                <a:lnTo>
                  <a:pt x="2561" y="2114"/>
                </a:lnTo>
                <a:lnTo>
                  <a:pt x="2628" y="2155"/>
                </a:lnTo>
                <a:lnTo>
                  <a:pt x="2695" y="2166"/>
                </a:lnTo>
                <a:lnTo>
                  <a:pt x="2750" y="2145"/>
                </a:lnTo>
                <a:lnTo>
                  <a:pt x="2817" y="2166"/>
                </a:lnTo>
                <a:lnTo>
                  <a:pt x="2884" y="2166"/>
                </a:lnTo>
                <a:lnTo>
                  <a:pt x="2951" y="2155"/>
                </a:lnTo>
                <a:lnTo>
                  <a:pt x="3006" y="2166"/>
                </a:lnTo>
                <a:lnTo>
                  <a:pt x="3073" y="2166"/>
                </a:lnTo>
                <a:lnTo>
                  <a:pt x="3140" y="2145"/>
                </a:lnTo>
                <a:lnTo>
                  <a:pt x="3207" y="2134"/>
                </a:lnTo>
                <a:lnTo>
                  <a:pt x="3274" y="2155"/>
                </a:lnTo>
                <a:lnTo>
                  <a:pt x="3329" y="2166"/>
                </a:lnTo>
                <a:lnTo>
                  <a:pt x="3396" y="2166"/>
                </a:lnTo>
                <a:lnTo>
                  <a:pt x="3463" y="2155"/>
                </a:lnTo>
                <a:lnTo>
                  <a:pt x="3530" y="2155"/>
                </a:lnTo>
                <a:lnTo>
                  <a:pt x="3585" y="2166"/>
                </a:lnTo>
                <a:lnTo>
                  <a:pt x="3652" y="2166"/>
                </a:lnTo>
                <a:lnTo>
                  <a:pt x="3719" y="2155"/>
                </a:lnTo>
                <a:lnTo>
                  <a:pt x="3786" y="2155"/>
                </a:lnTo>
                <a:lnTo>
                  <a:pt x="3841" y="2166"/>
                </a:lnTo>
                <a:lnTo>
                  <a:pt x="3908" y="2166"/>
                </a:lnTo>
                <a:lnTo>
                  <a:pt x="3975" y="2166"/>
                </a:lnTo>
                <a:lnTo>
                  <a:pt x="4042" y="2166"/>
                </a:lnTo>
                <a:lnTo>
                  <a:pt x="4098" y="2166"/>
                </a:lnTo>
                <a:lnTo>
                  <a:pt x="4164" y="2166"/>
                </a:lnTo>
              </a:path>
            </a:pathLst>
          </a:custGeom>
          <a:noFill/>
          <a:ln w="52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0"/>
          <p:cNvSpPr/>
          <p:nvPr/>
        </p:nvSpPr>
        <p:spPr>
          <a:xfrm>
            <a:off x="3231720" y="25210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1"/>
          <p:cNvSpPr/>
          <p:nvPr/>
        </p:nvSpPr>
        <p:spPr>
          <a:xfrm>
            <a:off x="3706920" y="2749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2"/>
          <p:cNvSpPr/>
          <p:nvPr/>
        </p:nvSpPr>
        <p:spPr>
          <a:xfrm flipH="1">
            <a:off x="3087720" y="3052800"/>
            <a:ext cx="853920" cy="674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3"/>
          <p:cNvSpPr/>
          <p:nvPr/>
        </p:nvSpPr>
        <p:spPr>
          <a:xfrm flipH="1">
            <a:off x="2765160" y="2766960"/>
            <a:ext cx="662040" cy="579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64"/>
          <p:cNvSpPr/>
          <p:nvPr/>
        </p:nvSpPr>
        <p:spPr>
          <a:xfrm>
            <a:off x="1708200" y="2930400"/>
            <a:ext cx="6877080" cy="3070440"/>
          </a:xfrm>
          <a:custGeom>
            <a:avLst/>
            <a:gdLst>
              <a:gd name="textAreaLeft" fmla="*/ 0 w 6877080"/>
              <a:gd name="textAreaRight" fmla="*/ 6877440 w 6877080"/>
              <a:gd name="textAreaTop" fmla="*/ 0 h 3070440"/>
              <a:gd name="textAreaBottom" fmla="*/ 3070800 h 3070440"/>
            </a:gdLst>
            <a:ahLst/>
            <a:rect l="textAreaLeft" t="textAreaTop" r="textAreaRight" b="textAreaBottom"/>
            <a:pathLst>
              <a:path w="4419" h="2374">
                <a:moveTo>
                  <a:pt x="0" y="2374"/>
                </a:moveTo>
                <a:lnTo>
                  <a:pt x="62" y="2374"/>
                </a:lnTo>
                <a:lnTo>
                  <a:pt x="123" y="2365"/>
                </a:lnTo>
                <a:lnTo>
                  <a:pt x="185" y="2365"/>
                </a:lnTo>
                <a:lnTo>
                  <a:pt x="247" y="2339"/>
                </a:lnTo>
                <a:lnTo>
                  <a:pt x="309" y="2330"/>
                </a:lnTo>
                <a:lnTo>
                  <a:pt x="380" y="2312"/>
                </a:lnTo>
                <a:lnTo>
                  <a:pt x="442" y="2206"/>
                </a:lnTo>
                <a:lnTo>
                  <a:pt x="504" y="2206"/>
                </a:lnTo>
                <a:lnTo>
                  <a:pt x="565" y="2136"/>
                </a:lnTo>
                <a:lnTo>
                  <a:pt x="627" y="1844"/>
                </a:lnTo>
                <a:lnTo>
                  <a:pt x="689" y="1368"/>
                </a:lnTo>
                <a:lnTo>
                  <a:pt x="751" y="873"/>
                </a:lnTo>
                <a:lnTo>
                  <a:pt x="822" y="0"/>
                </a:lnTo>
                <a:lnTo>
                  <a:pt x="884" y="803"/>
                </a:lnTo>
                <a:lnTo>
                  <a:pt x="945" y="414"/>
                </a:lnTo>
                <a:lnTo>
                  <a:pt x="1007" y="856"/>
                </a:lnTo>
                <a:lnTo>
                  <a:pt x="1069" y="962"/>
                </a:lnTo>
                <a:lnTo>
                  <a:pt x="1131" y="1174"/>
                </a:lnTo>
                <a:lnTo>
                  <a:pt x="1202" y="1226"/>
                </a:lnTo>
                <a:lnTo>
                  <a:pt x="1264" y="53"/>
                </a:lnTo>
                <a:lnTo>
                  <a:pt x="1325" y="1553"/>
                </a:lnTo>
                <a:lnTo>
                  <a:pt x="1387" y="1474"/>
                </a:lnTo>
                <a:lnTo>
                  <a:pt x="1449" y="1377"/>
                </a:lnTo>
                <a:lnTo>
                  <a:pt x="1511" y="1650"/>
                </a:lnTo>
                <a:lnTo>
                  <a:pt x="1573" y="132"/>
                </a:lnTo>
                <a:lnTo>
                  <a:pt x="1644" y="1580"/>
                </a:lnTo>
                <a:lnTo>
                  <a:pt x="1706" y="1712"/>
                </a:lnTo>
                <a:lnTo>
                  <a:pt x="1767" y="1659"/>
                </a:lnTo>
                <a:lnTo>
                  <a:pt x="1829" y="1703"/>
                </a:lnTo>
                <a:lnTo>
                  <a:pt x="1891" y="723"/>
                </a:lnTo>
                <a:lnTo>
                  <a:pt x="1953" y="1394"/>
                </a:lnTo>
                <a:lnTo>
                  <a:pt x="2024" y="1500"/>
                </a:lnTo>
                <a:lnTo>
                  <a:pt x="2086" y="1482"/>
                </a:lnTo>
                <a:lnTo>
                  <a:pt x="2147" y="1518"/>
                </a:lnTo>
                <a:lnTo>
                  <a:pt x="2209" y="820"/>
                </a:lnTo>
                <a:lnTo>
                  <a:pt x="2271" y="1465"/>
                </a:lnTo>
                <a:lnTo>
                  <a:pt x="2333" y="1288"/>
                </a:lnTo>
                <a:lnTo>
                  <a:pt x="2395" y="1500"/>
                </a:lnTo>
                <a:lnTo>
                  <a:pt x="2466" y="1474"/>
                </a:lnTo>
                <a:lnTo>
                  <a:pt x="2528" y="1041"/>
                </a:lnTo>
                <a:lnTo>
                  <a:pt x="2589" y="1279"/>
                </a:lnTo>
                <a:lnTo>
                  <a:pt x="2651" y="1597"/>
                </a:lnTo>
                <a:lnTo>
                  <a:pt x="2713" y="1527"/>
                </a:lnTo>
                <a:lnTo>
                  <a:pt x="2775" y="1430"/>
                </a:lnTo>
                <a:lnTo>
                  <a:pt x="2846" y="1094"/>
                </a:lnTo>
                <a:lnTo>
                  <a:pt x="2908" y="1756"/>
                </a:lnTo>
                <a:lnTo>
                  <a:pt x="2969" y="1350"/>
                </a:lnTo>
                <a:lnTo>
                  <a:pt x="3031" y="1235"/>
                </a:lnTo>
                <a:lnTo>
                  <a:pt x="3093" y="1553"/>
                </a:lnTo>
                <a:lnTo>
                  <a:pt x="3155" y="1306"/>
                </a:lnTo>
                <a:lnTo>
                  <a:pt x="3217" y="1986"/>
                </a:lnTo>
                <a:lnTo>
                  <a:pt x="3288" y="1580"/>
                </a:lnTo>
                <a:lnTo>
                  <a:pt x="3350" y="1950"/>
                </a:lnTo>
                <a:lnTo>
                  <a:pt x="3411" y="1447"/>
                </a:lnTo>
                <a:lnTo>
                  <a:pt x="3473" y="1271"/>
                </a:lnTo>
                <a:lnTo>
                  <a:pt x="3535" y="1518"/>
                </a:lnTo>
                <a:lnTo>
                  <a:pt x="3597" y="1535"/>
                </a:lnTo>
                <a:lnTo>
                  <a:pt x="3668" y="1385"/>
                </a:lnTo>
                <a:lnTo>
                  <a:pt x="3730" y="1730"/>
                </a:lnTo>
                <a:lnTo>
                  <a:pt x="3791" y="1456"/>
                </a:lnTo>
                <a:lnTo>
                  <a:pt x="3853" y="1836"/>
                </a:lnTo>
                <a:lnTo>
                  <a:pt x="3915" y="2047"/>
                </a:lnTo>
                <a:lnTo>
                  <a:pt x="3977" y="1853"/>
                </a:lnTo>
                <a:lnTo>
                  <a:pt x="4039" y="1924"/>
                </a:lnTo>
                <a:lnTo>
                  <a:pt x="4110" y="1836"/>
                </a:lnTo>
                <a:lnTo>
                  <a:pt x="4171" y="1836"/>
                </a:lnTo>
                <a:lnTo>
                  <a:pt x="4233" y="1765"/>
                </a:lnTo>
                <a:lnTo>
                  <a:pt x="4295" y="1897"/>
                </a:lnTo>
                <a:lnTo>
                  <a:pt x="4357" y="2003"/>
                </a:lnTo>
                <a:lnTo>
                  <a:pt x="4419" y="209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5"/>
          <p:cNvSpPr/>
          <p:nvPr/>
        </p:nvSpPr>
        <p:spPr>
          <a:xfrm>
            <a:off x="1697040" y="22161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2071800" y="2357280"/>
            <a:ext cx="680760" cy="1446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70"/>
          <p:cNvSpPr/>
          <p:nvPr/>
        </p:nvSpPr>
        <p:spPr>
          <a:xfrm>
            <a:off x="304920" y="193680"/>
            <a:ext cx="883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ависност од д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 је развојна боле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са високом преваленцом код адолесц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Ади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ц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ја је 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омпле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са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б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е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виорал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уробиоло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ш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нет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с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6440" y="200016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VIRONMENT &amp; DRU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XPOS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648320" y="198108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NAPTIC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LAST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7605720" y="198108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A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943000" y="1981080"/>
            <a:ext cx="119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ET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4" descr="BallAndStick.jpg">
            <a:hlinkClick r:id="rId1"/>
          </p:cNvPr>
          <p:cNvPicPr/>
          <p:nvPr/>
        </p:nvPicPr>
        <p:blipFill>
          <a:blip r:embed="rId2"/>
          <a:srcRect l="16000" t="0" r="16000" b="0"/>
          <a:stretch/>
        </p:blipFill>
        <p:spPr>
          <a:xfrm>
            <a:off x="2797200" y="2895480"/>
            <a:ext cx="131904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0" name="AutoShape 15"/>
          <p:cNvSpPr/>
          <p:nvPr/>
        </p:nvSpPr>
        <p:spPr>
          <a:xfrm>
            <a:off x="2416320" y="342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4092480" y="35053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flipV="1">
            <a:off x="7978680" y="2743200"/>
            <a:ext cx="685800" cy="380880"/>
          </a:xfrm>
          <a:custGeom>
            <a:avLst/>
            <a:gdLst>
              <a:gd name="textAreaLeft" fmla="*/ 0 w 685800"/>
              <a:gd name="textAreaRight" fmla="*/ 587880 w 68580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7" descr=""/>
          <p:cNvPicPr/>
          <p:nvPr/>
        </p:nvPicPr>
        <p:blipFill>
          <a:blip r:embed="rId3"/>
          <a:stretch/>
        </p:blipFill>
        <p:spPr>
          <a:xfrm>
            <a:off x="7369200" y="3200400"/>
            <a:ext cx="16984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70"/>
          <p:cNvGrpSpPr/>
          <p:nvPr/>
        </p:nvGrpSpPr>
        <p:grpSpPr>
          <a:xfrm>
            <a:off x="4549680" y="2743200"/>
            <a:ext cx="2590560" cy="2362320"/>
            <a:chOff x="4549680" y="2743200"/>
            <a:chExt cx="2590560" cy="2362320"/>
          </a:xfrm>
        </p:grpSpPr>
        <p:pic>
          <p:nvPicPr>
            <p:cNvPr id="445" name="Picture 33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4549680" y="2743200"/>
              <a:ext cx="7376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4" descr=""/>
            <p:cNvPicPr/>
            <p:nvPr/>
          </p:nvPicPr>
          <p:blipFill>
            <a:blip r:embed="rId5"/>
            <a:stretch/>
          </p:blipFill>
          <p:spPr>
            <a:xfrm>
              <a:off x="5225040" y="2743200"/>
              <a:ext cx="1915200" cy="23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Line 53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66"/>
          <p:cNvGraphicFramePr/>
          <p:nvPr/>
        </p:nvGraphicFramePr>
        <p:xfrm>
          <a:off x="54000" y="2819520"/>
          <a:ext cx="2305080" cy="21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9" name="Object 6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000" y="2819520"/>
                    <a:ext cx="2305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Критеријуми за зависност од ПАС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хејвиорални одговор је комплексан али је углавном повезан са краткотрајним и дуготрајним ефектима дрога у моз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и за зависност од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ажна жеља(компулзија),немогућност контроле,апстиненцијална криза-синдром,толеранција,прогресивно занемаривање алтернативних задовољстава и интересовања,настављање са коришћењем упркос јасним доказима о штетним последица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914400" y="304920"/>
            <a:ext cx="76201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914400" y="228600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едњи мозак је регион који садржи много ареа важних за зависност од ПАС,обзиром да су ови региони укључен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мотивацију и уч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  стимулусима из окружења и последичном понашању које води ка задовољ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жан је за  понашање које омогућава одржавање живота- као што је узимање хране и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мозак је комплекснији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neuroimaging”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хнике показују да се активира под дејством стимулуса који проузрокују “жудњу” код зави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уникација у мозгу се одвија путем ћелија или неурона.Хемијски месинџери преносе поруку од пресинаптичког неурона до постсинаптичког неуро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ки од добро проучених неуротрансмитера који су релевантни за деловање ПАС с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памин,серотонин,норадреналин,ГА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утамат и ендогени опио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сихоактивне супстанце су у стању да имитирају ефекте природних ендогених неуротрансмитера,или да се умешају у нормалну ф-ју мозга блокирајући је,или да ометају нормално складиштење,ослобађајући или уклањајући неуротрансми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дан од важних механизама којим ПАС делују је блокирање преузимања неуротрансмитера након ослобађања у пресинаптич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 пуко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1" descr=""/>
          <p:cNvPicPr/>
          <p:nvPr/>
        </p:nvPicPr>
        <p:blipFill>
          <a:blip r:embed="rId1"/>
          <a:stretch/>
        </p:blipFill>
        <p:spPr>
          <a:xfrm>
            <a:off x="3124080" y="5181480"/>
            <a:ext cx="28814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/патогене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оји више образаца коришћења психоактивних су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ц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периментално коришћење, да би се “истражил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фекти, што се често дешава међу младима посебно ка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у питању канабис и испарљиве супстан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туационо коришћење је коришћење дрога повеза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одређеним ситуацијама (забаве, рејв журке, итд.) и 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најчешће стимуланси и халуциног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6236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локадом преузимања ремети се нормална ф-ја неуротрансми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С се тада вежу и појачавају ф-ју рецептора познатих као агон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личите ПАС делују на различите начине у мозгу,производећи различите ефекте.Везују се за различите типове рецептора,и могу повећати или умањити активност неурона путем неколико мех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које с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најче-шће злоупотребљавају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Депресор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алкохо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едативи/хипн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нхаланс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(испарљиви раствар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Стимуланс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кока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мфетами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пи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морф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херо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п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Халуциноген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CP,LSD,DET,ДOM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анабин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хашиш,марих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-свој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синтетски дериват морфина, настаје из мака пореклом из Афганистан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НАЖНА, ХЕРОЈСКА, ТВРДА дро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аје ацетилирањем морф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ја варира од беле (најчистији), преко боје слонове кости до смеђе.Састоји се од ситних кристала који личи на шећер у пра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МИРИСА, ГОРКОГ УКУСА, хидросолуби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ЈАДИКТИВНИЈА ПАС, веома брзо доводи до психичке и физичке зависн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терапију је уведен као лек 1898 год. за купирање астматичне кр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ични хероин је помешан са шећером, скробом, млеком у праху, стрихнином, или разним отровним супстанца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исници никада не знају његову јачину, ни шта у себи садржи, те постоји велики ризик од предозирања и см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рганизам се УНО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.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најјачи и најбржи ефекат)- тренутно настаје обамрлост, безбрижност, ослобађање од страх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ШМРКАВАЊЕМ (брзо ресорбује са носне слузнице=, максимални ефекти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ШЕЊЕМ -”ХВАТАЊЕ ЗМАЈА”- хероин се ставља на станиол и загрева са доње стране пламеном, а дим удише помоћу цевчице од пластике. Маx.ефекат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ХАЛАЦИЈОМ - (у виду праха или ди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након уношењ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уношењу у организам наступ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нажно ЕУФОР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снажно АНАЛГЕТ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НАРК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ХИПН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нажан АНТИТУСИК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осећање ЗАДОВОЉСТВА, ПРИЈАТНОСТИ, БЕЗБРИЖНОСТИ, ДОБРОГ РАСПОЛОЖ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Херо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фекти на организам манифестују се у 3 фазе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- УДАРНОГ дејства, “ФЛАСХ”-траје кратко-неколико минута: ознојеност, црвене оћи, миоза, топлина у стомаку, презнојавање, дремљивост, успореност,поремећај пажње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ЕУФОРИЧНО-МЕДИТАТИВНА, 3-4 сата: смиреност, опуштеност, релаксација мишића, смањење напетости, страха, БЕЗБРИЖНОСТ, БЛАГОСТАЊ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- ХИПНОТИЧКА: нерасположење, потиштеност,депресивност, осећање кривице, суицидалност. Неодољива потреба за поновним узимањем дроге.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оком стања интоксикације доминира ЕУФОРИЈА, а након престанка ДЕПРЕС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еловање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ко ОПИЈАТСКИХ РЕЦЕПТОРА, који се могу поделити у 5 груп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МИ”- од утицаја су на аналгезију. Они посебно дају еуфорију при апсорпцији и депресију при елиминацији, апстиненцијалне симптоме и стварају зависност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КАПА”-дају аналгезију, седацију и појачану диурез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ДЕЛТА”- дају само аналгезију. Накнадно су откривене још две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е рецептор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СИГМА”- дају аналгезију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ОРПХАН” – дају аналг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ФАЗА: после 8-12 сати од последњег узимања:немир, напетост, несаница, раздражљивост, губитак апетита,нес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РУГА ФАЗА: после 16-24х:дрхтавица, сузење, зевање, ринореја, презнојавање, повраћање, дијареа, болови у стомаку, костима, зглобовима, слабост, малаксалост, несаница,најеженост коже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ИНТЕНЗИВНИЈЕ ТЕГОБЕ после 36-7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ЋА ФАЗА почиње краје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: интензивирање претходних тегоба, са јачим мишићним боловима,стално је у покрету /најчешће захтева прекид терапије, рецидив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23880" y="15238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реативно коришћење може бити везано за одређ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, обично краћи, период у животу (на пример, по завршетк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ја итд.), али врло лако прелази у з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сничко коришћењ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итоксикоманија је коришћење различитих врс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 дрога, при чему се неке користе да би потенцира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јство других или да би се избегли негативни ефек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е коришћења неких супстанц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исност је континуирано коришћење дрога уз разво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ке и психичке зависности. Тежина зави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њује се на основу тежине социјалних, соматс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сихичких последица и обично се описује као бла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редња и тешка зависн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ЕТВРТА ФАЗА: о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 – присутни сви претходни симптоми,болови у трбуху, поремећај варења.Исцрпљен,уплашен,тремор руку,зенице упадљиво проширене,грозница, зевање, сузење, ринореја,субфебрилност,умерена хипертензија,блага хипергликемија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5-7 дана тегобе слабе и постепено нестај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УТНИ стадијум траје траје 7-10 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3"/>
          <p:cNvSpPr/>
          <p:nvPr/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4572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лоупотреба и зависност од супстанци су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ремећаји функције мозг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стали коришћењем психоактивн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активне супстанце утичу на перцепцију,емоционалне и мотивационе процесе у моз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ретма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говор мозга се испољава кроз понашање и мишљење,тако да поремећај функције мозга резултира комплексним бихејвиоралним симптомим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ечење:бихејвиоралне интервенције,едукација пацијента и породице,породична терапија,саветовање,тестирање на дроге,нема специфичне медикације али постоје “корисни “ 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ак и принудна лечења дају добре резулта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дели 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дугоделујући опијатски антагониста-антагонизује ефекте опијат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 терапија почиње након супервизиране детоксикације, зато што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нема могућност ублажавања апстиненцијалне кри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ј вид лечења захтева позитиван терапијски однос, ефективну терапију саветовања, психотерапију, мониторинг комплијанс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оде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Метадо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нтетск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пиоид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држав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естана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зим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херои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ихејвиоралн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сихотерапиј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ветовање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стали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рвисим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дршк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Бупренорфин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арцијал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лаб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нт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латив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уг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еловањ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обар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ос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офил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SM V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3.90 Alcohol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00 Opioid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1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dativ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ypno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r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xioly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 (including benzodiazepine dependence and barbiturate depende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20 Coca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30 Cannabis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40 Amphetamine dependence (or amphetamine-lik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5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allucinog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'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6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nhal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80 Poly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hencyclid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(or phencyclidine-like)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 Other (or unknown) 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5.10 Nicot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пиои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пијум, морфин, хероин, меперидин, метадон, пентазоци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фетамини и сличне материје са симпатикомиме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им дејством, укључујући и кока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алуциногени (ЛСД, псилоцибин, мескали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, ДМТ, ДОМ или СТП, М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ЦП и слични арилциклохексиламин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ључујући кетамин, ТЦ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пресори ЦНС-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барбитурати, БДЗ, мепробамат, глутами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3880" y="18284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анабиноиди (хашиш, марихуа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арљиви растварачи и деривати петролеума (ацето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пак, бензен, бензин, аеросоли, итд.) и други инхалан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- азот монокс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алоиди белад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тропин, скополамин, хоматропин, семе мака, ит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фе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B 10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352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0 Ментални поремећаји и поремећаји понашања узроковани употребом алкохола - акутно тровањ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1 Ментални поремећаји и поремећаји понашања узроковани употребом опи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2 Ментални поремећаји и поремећаји понашања узроковани употребом канабин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3 Ментални поремећаји и поремећаји понашања узроковани употребом хипнотика или седати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4 Ментални поремећаји и поремећаји понашања узроковани употребом кока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051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5 Ментални поремећаји и поремећаји понашања узроковани употребом других стимуланса, укључујући кафе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6 Ментални поремећаји и поремећаји понашања узроковани употребом халуциног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7 Ментални поремећаји и поремећаји понашања узроковани употребом дух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8 Ментални поремећаји и поремећаји понашања узроковани употребом испарљивих отапа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9 Ментални поремећаји и поремећаји понашања узроковани употребом више врста дрога и других психоактивних твар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Зависност од ПА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ност од психоактивних супстанци (адикција) је не-уробихејвиорални синдром, који се карактерише понављаном, компулсивном потребом за узимањем психоактивне супстанце, упркос нежељеним социјалним, психолошким и физичким консеквенц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икција је често удружена са физичком зависношћу, апстиненцијалним синдромом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леранц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Важни појмови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23880" y="1219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зичка зависност се дефинише као физиолошко ст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је на супстанцу, чије одсуство доводи до поја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пстиненцијалног синдр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пстиненцијални синдром чини група знакова и сим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а која настаје након наглог прекида уноса психоактив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пстанце или у случају значајног смањења дозе на кој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је организам адаптиран. Синдром се карактерише повиш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м активношћу физиолошких функција, које су биле су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иране деловањем дроге и/или депресијом функциј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је су биле стимулисане под дејством дрог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леранција је стање у коме дрога има смањен биолош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 или бихејвиорални одговор, односно потребне су виш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зе супстанце да би се произвео исти ефек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0:28:13Z</dcterms:created>
  <dc:creator>Bill Gates</dc:creator>
  <dc:description/>
  <dc:language>en-US</dc:language>
  <cp:lastModifiedBy>nmuric91@gmail.com</cp:lastModifiedBy>
  <dcterms:modified xsi:type="dcterms:W3CDTF">2020-10-01T11:08:24Z</dcterms:modified>
  <cp:revision>53</cp:revision>
  <dc:subject/>
  <dc:title>Slide 1</dc:title>
</cp:coreProperties>
</file>